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DEFD-B293-42C3-A1D9-9702E7A1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C6E1-ED38-4ABF-B701-FD92F4A8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A210-90F4-4193-836D-95FD8824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1AD-0757-4B12-ADF6-185EF0FD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BCE2-39CD-4CAD-A2B1-4D8197FF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3BC8-7D5E-48EA-B443-06FE0C04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7FBA-F55B-4938-86F0-DE9DB45A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B2B3-C909-47C9-9013-AF7D42F3D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E234-A767-4E86-BF50-6C0A939F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65FC-4F49-4787-9B5F-68DAF656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49E-E088-4FAF-B575-DD36DD9A2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927-C675-43AA-A167-A7260C5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0013-F33C-4FBC-B0D0-3877B6B5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64DB-086A-46F6-925E-8AF6119F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A01AD-05C8-422F-B280-23ABC8C7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8358-CC16-43CC-A896-6384DC22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CBE2-F46D-4D5A-ACC3-32BC63A32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18852-89A7-4DA2-8906-D83F1CBE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87DCC-BB32-4067-9A25-C7C4C551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F4F3-9061-451B-B734-572B0A5C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60174-7376-4E14-A646-BC803D9F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B28ED-EB42-4D82-84B7-AE4A2F22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D485-555C-464B-A867-8B2390A3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E03EA-FBA9-4783-8EB2-0318E543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10D03-8A02-49A1-8073-D1FD2862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685E-9FBA-4687-8B39-F93518D6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9DBB-6C3C-4AEC-A826-C5B96071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3658-B8D3-4CB0-8389-AB751677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7E99-D17A-47B9-A5AD-3ED81E20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E64E-053D-4C08-8511-E05DC697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03B15-B4F3-4A46-A455-C6E20138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6D03-E780-4A9A-AA49-1DC7E69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97F0-BA47-41BC-9267-382C5445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C35-9033-4851-B769-70907E47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E4E8D-CB4E-47B6-8C6E-3AE3D2B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E9D27-4929-455B-B5F1-7F5680E0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F9E66-7AF2-43CE-92A8-1CDB288ED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5C321-F1E4-47E0-9213-15DC28B4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3DB69-00C8-4C86-8ED6-8D293614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9A29B-2B60-4D97-8465-6FEC4C7D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7D72B-5ADA-44E2-ADD7-BF6BB154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BC3E5-1CCA-4643-A3B5-D5F5BD39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1F966-80EF-489B-BC58-BDB468841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56A-DB3F-491B-A2D4-DC2A1F0B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E7C-A931-40F6-8D0F-FD0008C2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FA61-7891-4D02-AF0A-A9FAA44B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15B5-5231-4BDA-B1AB-06A889CA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EC0E-3807-4E68-93B3-566F7D61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2B79-64B1-4BCD-9C32-F190B83E411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89FF-32D4-4265-9DBC-BE15A4DB6BF8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CE60-EFBC-47C4-A603-7D4A8D245FA5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B353-F2DF-4BB3-AF47-8663F5FA632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6/38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7/39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8/40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9/41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20/42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gse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3/35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4/36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gse.org/content/blogcategory/15/37/" TargetMode="External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H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Health Ca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versity of Pittsburgh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l human Health Care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s by: Science teacher, one other teacher,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: Service Leadership Project in Health Ca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IST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– Information, Society &amp;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                           Technology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220932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rexel University, Philadelphia, P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elds: telecommunications, computer technology, networking, programming, media, multimedi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ommendation by: teacher who relies upon technical applications or math or science teacher, one other teacher and Guidance Counsel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International Studi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iversity of Pittsburgh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: linguistically talented, articulate in political &amp; social sciences, and sensitive to cultural divers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 by: World Language teacher, Social Studies teacher 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The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negie Mellon University, Pittsburgh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JUNIORS on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: chemistry, physics, molecular biology, astrophysics, material science, forensic science, MATHEMATICS, COMPUTER SCIENCE Recommendations by: Science teacher, Math teacher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- Teach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llersville University, Millersville, 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s: all levels and subjects of educ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s by: any two teachers and Guidance Counselo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quires: Service Leadership Proposal addressing community educational ne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 (All applicants) Paper Application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For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Statement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tra-curricular resume (1-2 p. resum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ief Essay (2 p. essay based on “school’s” promp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tters of Recommendation (3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ranscript, Report Card, Attendance, Stndrd. Tes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evel II – (semifinalists, selected from L 1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ve Auditions or Interview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lies to all “schools” except the AR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A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milar to other PGSE, School of the Arts requir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Data Shee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rrative (1 p. essay to introduce yourself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owever, The PGS of the Arts (</a:t>
            </a: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NOT require teacher recommend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Nor a resume, nor a Chief Essay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ES REQUIRE an artistic work sampl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rtistic recording or portfolio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mmends “hand” delivery of application to CSIU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PGSE – Application Requirement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need to “sell” yourself to be notic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Follow application guidelines exact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is the applicant’s responsibility to make sure the application has been filed in a timely and complete fashion, with the appropriate Intermediate Unit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– Application Proces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pplications available after Oct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by November 1, gathering your materials, information, selection of audition pieces (PGSA only), writing and rewriting essay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SAP, ask appropriate staff for letters of recommendation – provide them with materials and information prepared abov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ubmissions of completed applications vary by school, plan to be done by J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nstantia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mpleted applications to Guidance Counselors at least 2 days prior to “postmark” deadline,  Guidance will then mail them ou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PGSAS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PGSA PGSGE PGSHC PGSIST PGSIS PGSS PGS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rounds for Disqual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eligible (see each schools application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ateness of applic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ilure to send application to correct offic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complete –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all parts must be in at same time)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lagiar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alsification of informatio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t abiding by application guidelin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 not add unnecessary or neglect required it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Rectangle 2" descr=""/>
          <p:cNvPicPr/>
          <p:nvPr/>
        </p:nvPicPr>
        <p:blipFill>
          <a:blip r:embed="rId1"/>
          <a:stretch/>
        </p:blipFill>
        <p:spPr>
          <a:xfrm>
            <a:off x="530280" y="1195560"/>
            <a:ext cx="818028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r. Bruce Guent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ifted Education Teache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erwick Area High Schoo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dditional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ww.pgse.or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fo on each scho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wnloadable application mater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lpful Hints for applica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requently Asked Questions (FAQ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Calenda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GSE “At a Glance”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Bruce Guenther, Gifted Education Teach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guenther@berwicksd.org  759-6400 x3148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rs. Heather Melito, Guidance Counselo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melito@berwicksd.org   759-6400 x 310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st updated 23 October 2008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Pennsylvania Governor’s Schools of Excellenc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23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ct. 2008.  The Pennsylvania Governor’s Schools of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cellence.  23 Oct. 2008 &lt; http://www.pgse.org &gt;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Pennsylvania Governor’s Schools of Excellence (</a:t>
            </a:r>
            <a:r>
              <a:rPr b="0" lang="en-US" sz="36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E</a:t>
            </a: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r academically or artistically talented students, including the gift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but, not exclusivel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week, intensive, residential, program held during the summ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ight “schools,” held on different college campuses, based on eight career field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ition, room &amp; board paid by the State; transportation, incidentals paid by fami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- FY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pplication process is purposely rigoro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member there will be more qualified applicants than there are spaces availab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sider application a two year proc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u may apply to no more than TWO    Pa. Governor’s Schoo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 PGSE “Schools”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gricultural Sciences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t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lobal Entrepreneurship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G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alth Care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HC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formation, Society &amp; Technology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IS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ternational Studi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cienc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eaching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GS 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PGSE Alumni from BH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tiny Deat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osh Gallagher - 2008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ristin Kemmerer - 2008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ivia DiPasquale - 2007 PGS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rista Johnson - 2007 PG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im Gerlach – 2006 PGS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ily Odgrin – 2006 PGS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rie Brown – 2005 PGSHC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uane Swank - 2005 PGSA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 action="ppaction://hlinksldjump"/>
              </a:rPr>
              <a:t>link to Application Process</a:t>
            </a: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A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Agricultural Scien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Pennsylvania State University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iversity Park, P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elds: renewable resources, environmental studies, genetic engineering, food development &amp; management, water quality, Veterinary medicine, plant science, geospatial technology, toxicology, forestry, wildlife 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mmendation by: Science teacher, one other teacher, and Guidance Counse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– The Ar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ctr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rcyhurst College, Erie, P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elds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ive writing, dance, performance theater, theater design, music (voice, instrumental &amp; composition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ual Arts I: drawing, painting, graphic arts, sculptu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sual Arts II: Photograph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quires artistic recording or portfoli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e2d700"/>
                </a:solidFill>
                <a:uFillTx/>
                <a:latin typeface="Calibri"/>
                <a:hlinkClick r:id="rId1"/>
              </a:rPr>
              <a:t>PGSGE</a:t>
            </a: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 – Global Entrepreneurship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high University, Bethlehem, P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pen to Sophomores and Junio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eld: Business, finance, e-commerce (with recognition of globalization of economi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ommendation by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usiness or Social Studies teacher,      English teacher and Guidance Counsel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2" action="ppaction://hlinksldjump"/>
              </a:rPr>
              <a:t>link to Application Process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9:28:33Z</dcterms:created>
  <dc:creator>Guenther Family</dc:creator>
  <dc:description/>
  <dc:language>en-US</dc:language>
  <cp:lastModifiedBy>bguenther</cp:lastModifiedBy>
  <dcterms:modified xsi:type="dcterms:W3CDTF">2008-10-23T20:32:43Z</dcterms:modified>
  <cp:revision>34</cp:revision>
  <dc:subject/>
  <dc:title>Pennsylvania Governor’s Schools of Excellence </dc:title>
</cp:coreProperties>
</file>